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4C87-BD74-4C46-B593-68C627E1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B05-1638-4F64-A226-4A72D983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63F5-35A0-4C02-A253-D1FB8E36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1DC-4698-488E-976A-8FC437F75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064B-6B3F-450D-8F83-9AB3D707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02EB-1AC4-4F8B-BE47-F6959479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BF13-4172-421C-A409-A7775E9A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15E7-E319-456D-8D1E-E8FCD659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A831-CA33-481E-B0E3-E2D96617E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FEF2-644B-4B35-A4C0-C3886FEB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C99D-0409-4D45-88D4-94911E29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5FEF-DB82-47DF-939C-5930352D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90821-4455-4620-8230-2AB8EFC24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ohr-Rutherford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69600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figure out how to use the spectrome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information do they give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AR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gas tubes get hot and are fragile.  Also, take care to NOT turn on the switch until the tube is in place and don’t touch it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Arial"/>
              </a:rPr>
              <a:t>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more lines than the Bohr-Model predicts in its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Biology Today, Tom Lewis, Bohr model of a hydrogen atom by A Journey Round My Skull."/>
          <p:cNvPicPr/>
          <p:nvPr/>
        </p:nvPicPr>
        <p:blipFill>
          <a:blip r:embed="rId1"/>
          <a:stretch/>
        </p:blipFill>
        <p:spPr>
          <a:xfrm>
            <a:off x="5003640" y="189000"/>
            <a:ext cx="32544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Hydrogen Emission Spec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337440" cy="4744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87280" y="6669000"/>
            <a:ext cx="64803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630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40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16720" y="6308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70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Oxygen Emission Spec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121440" cy="4584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187280" y="6669000"/>
            <a:ext cx="64803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630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40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720" y="6308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70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Arial"/>
              </a:rPr>
              <a:t>Neon Emission Spec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330200" y="1557360"/>
            <a:ext cx="6121440" cy="4583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87280" y="6669000"/>
            <a:ext cx="64803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6308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40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6720" y="6308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700 n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20:31:21Z</dcterms:created>
  <dc:creator>FradkiL</dc:creator>
  <dc:description/>
  <dc:language>en-US</dc:language>
  <cp:lastModifiedBy>User</cp:lastModifiedBy>
  <dcterms:modified xsi:type="dcterms:W3CDTF">2010-09-08T13:09:55Z</dcterms:modified>
  <cp:revision>4</cp:revision>
  <dc:subject/>
  <dc:title>Bohr-Rutherford Model</dc:title>
</cp:coreProperties>
</file>